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A819-E2FD-432D-A262-61C2665754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3D24-71D2-4E10-812A-821D3D5AB06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EFE6-7762-4B57-B8CB-12EE50EF3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4FC4-1841-4A41-A9E3-7F3D4B93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82169F-ACE6-4481-932F-F87F292B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C44D94-3F24-4E8F-82F8-3A7C6A2D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AC614-5342-43DB-BCDE-126EEB13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B8F836-0E75-48CF-8EA6-D9F7BBE5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B0A8CE-C8F0-4C48-8B4C-611E1C46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FB16E3-22C5-43CF-A79F-EC8B0DFB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007868-DED0-4CE4-9A47-65441744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D5D675-F769-43BA-8E83-69343EB44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E4330C-7030-4387-B8AD-9166C9787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5C5A03-F96B-47F7-835F-AF00DD29D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DF0E-410D-4049-B5D2-5978F1F8E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36F135-8ED7-4D7A-8E47-3577DE23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5902F7-BAEA-43F6-8A28-BA4CAA11D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712832-FCAC-4075-8BE0-41AA8787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1200F1-6D43-4A51-B998-6E170718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A29631-0DE0-4C18-B75C-BA9BC1B5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858CFE-7593-4915-BEC5-79C805F7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A6AC2A-22E0-4D4C-AC35-FA363FA2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01473E-0992-42CB-AECB-805580EE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AA3221-BB4D-4028-ABDC-65AF9404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D31283-FDA0-4E47-A3BD-D74930045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6340-7176-42E4-944A-A001FED94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BCD38E-D5CA-4AE5-9FCC-6034C36D5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41B4E-66E7-42DD-B3CF-8005C777C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A7314-A588-4B55-9A4C-B27D81F8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BA3E6-56CD-4FA3-A14E-57E5BA22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3D682-4EEB-43F4-8C04-0882114C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F057A-DB15-4FC2-8D3C-DC908430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EDD11-06A8-4B9B-B543-BE69EDAF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C4530-01F6-43C6-8F2C-FFCFC04F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5F62D1-B584-440E-A48A-9189A01C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3A2E08-4F7C-499F-99F5-900F6CA1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D73F-C57F-4A06-82D4-B9D83E0CA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3AFC8-CA97-46AD-81CF-76E197EB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E6B767-59F6-4207-A9B9-B653C0195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5BD35B-5084-4F20-8DFA-04203073D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CA9113-9932-4E3D-BEF0-DAFE96364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A6375C-082E-4B7D-90F8-7B4B65B2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9D3B96-20C8-494E-9612-5B3BA633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6BDAF6-C063-43BF-8976-693703F4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559457-C23E-46E5-8810-DA817A07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924545-3480-4209-8432-9395CF09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96DEAB-4EE8-44C7-901F-BEB97ECF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5201B-A6C9-4169-BD15-EB3FEC5F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C2E482-BDE9-48D3-94D4-81566DA3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A18C8C-5E66-4D26-A3C9-58AE5543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4BB8E7-F8F4-4D20-974D-BCD30BD1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89D37C-43D6-43FB-815A-A7274D4B0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3F8977-A0B0-49B6-B08B-55E45EFEC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79562D-C812-497C-A67D-667802110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99E959-0986-481D-866C-ECCC2A5E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EA7924-0E79-41A1-B20A-485C542F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530A61-A098-4521-8814-F78A7B80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A45FF5-4FB0-4413-B276-AA50F6CB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FDE01-2657-4B4C-AFA3-8B996803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8038AD-8B87-4502-BB5F-A3487487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42E2FB-AB0F-4BF3-BBD7-8BC71AC0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7770A3-8E6E-4FF5-AED2-63EF5721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8344A8-9FFD-49E0-BAC5-CEB46D9B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04C236-9DDE-4199-B9F9-C99A5FCF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91BE8C-6DC6-42E8-B074-223AAE3EE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969905-9D55-4B82-BB2C-BC315EAC1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7B6B-0C8D-466C-A957-EE0671F4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FEBB-C95A-4202-A285-692DF2A6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455F-1C54-4EE1-ABB5-EFFE4658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A4B95-8A12-4262-B007-289DA197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35EC-796B-4C9E-A278-B378D69C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C0B2-DD80-4418-8186-BB33DF15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783E-D1B0-422C-8BAF-DEDE2701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28D3-C14A-4609-901A-53625B75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C6019-1B4C-4660-8E57-E197BCE46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FA2AC-E36A-4550-A5A9-BA6F534E6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4FE60-407B-498B-AFE9-E266A8168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0E913-0498-447C-9391-82F3E8B0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F2C6D-744C-48D6-BCDC-13A2CE114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BEB1B-92AA-4271-B289-FA126B42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4D413-8F8A-46BB-BD1E-99B74A83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E10E-E323-4520-94B8-6C8DED68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F42CD-0CE1-41AC-BC30-991508F1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C6CA0-692E-4FD1-8CA7-5986C551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A7D45-99FF-4105-998D-F9C6C89A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7E402-98DB-4348-ADC3-EE22CC88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9EB5F-C75A-43C2-8A22-C4CA199F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52E79-B082-4420-97BE-D433747CA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727C4-4436-4CA5-B4D7-8FF624168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E6202-53F4-4E41-8D9D-1907061B1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7F9CF-34EE-408D-B5E7-3C13E29D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5EF7D-122E-4AD9-9966-5552A4FE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55BB-F6E2-485D-8607-7C0AE664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93FBA-4468-4131-A4A0-4D51AAB3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BB084-8D5A-4CBF-B6E7-61C8831F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0EC25-591E-4D28-B5EE-593E7DBF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10AB7-DDE0-4870-ADD3-29F33830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DCB79-D4D0-43BB-92D6-98654A9E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3D676-B035-4ACB-8228-8DEE9324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97C96-7BF0-4B59-9BB8-C0147F68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D6D07-DAA3-4EE2-B7C7-4656AA096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C54C4-4BC4-455F-A76B-240307F8A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5F285-3A86-44DF-8676-387C02CEA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D911-66C1-4FB7-B7B0-DAC44A03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E9248-39BD-4F09-A781-8CD43309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9A5AF-0590-4A61-90EA-B5830CD6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4B618-0939-455D-80B0-BEB782DA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3A470-6045-4B5A-99E1-E0CAE54E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BE5A9-8298-4B6C-BDFD-145A5017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1A07F-661D-4D7A-A01B-5558C4BB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B4724-4A13-4D2D-B852-AAE64F9C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3EDC8-0E4C-48E7-9788-ABE57AA7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CFDB7-8E83-4B07-9EF5-F7B801D5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CAA7E-C61B-46D8-9D20-A66F9FF33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DFDE-71CD-4AAB-B141-7A718865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A0CB9-BC5C-4D10-8D26-5E2F06363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9A7BD-F0AB-4F54-8D1B-F98F80519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B40A3-6619-46AD-9544-C23331FB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9B20F-882A-4E80-B0D7-1E156133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CF0B3-0497-4877-9E34-2D70886E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61966-2B61-4E6A-959B-FFB159C9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FBE45-369C-478B-87A6-53D0B20F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EB197-B910-4949-A638-313F8749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1664F-6769-4E09-9124-1A070F73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DDC94-AFD4-453D-A75F-DC69B1FB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CE76-4B43-4611-B0FE-6098A223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C9C04-FC1F-4A52-B5FF-18FC06DE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3BCC6-4A48-43C0-B989-F2838C344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1D0D2-D637-41BC-A23F-C4363B4F9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C4F0F-A5DD-4F10-B4A7-82C2E251B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6473F-8D96-4F16-BE62-31EF9567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4B2F2-90C3-429D-9DF1-349A2145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F00B1-A536-49B0-B2DF-C087A594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C4E23-B614-4F80-BA7C-BD4F7BFA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541EB-6BE9-4D89-BDE0-1038058B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A9FDB-6E51-4D94-9513-11CDCDBC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C614-3B7F-4065-A5DE-778BA51A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42F0B-F59E-4281-AC1A-D63CF0D0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AFF5B-3101-4A2E-ADF0-A691D5B3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2C4EF-BBEE-4079-B9FC-93019C83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2E356-315B-45B4-8811-5289F712B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58F08-F3D8-4420-95D8-AFDFE1F7D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8E8FD-71C2-4856-B11D-EC66EDB38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2AE7E-15B8-45C4-8A7E-3F1C24DD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FBFDB-DABF-44F7-947D-59AE2E7B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264CC-9882-4A64-A192-699AAC2B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A8302-788D-4212-8D80-2DEEB61F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4201-205F-4D45-B8DE-375308F4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4780B-413A-440A-BECE-3E9674F7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7B14E-4E03-44DB-834E-E150314C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DFBD2-9230-440A-B90C-D7BB421D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4C037-B635-459E-A5B8-054AD115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F04B0-F31E-4AD1-B56F-E9D91518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0A985-F26D-41B4-ACDE-141D3D8C5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AB092-9172-4AF8-8E88-212FD1AB1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EB4C1D-1544-4347-B2B3-19E5BD832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ADC8C8-BCD1-4A59-B383-175995E4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FFA2E2-131F-4874-875D-DAC2E04D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526D-EA6E-4FB0-B64C-6CDD1F00C562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58D5-8412-4897-BD05-4027EB822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8398-50C6-480B-807C-F45C39B3E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608B-26A0-4C0F-8D83-F5BF2B059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3CAB-6D0A-427D-82ED-408AE1D6B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170D-3E3D-46F4-8A9B-C676A57D4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47B9-39E6-4EBE-A2DD-9ACE1A21C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6580-8126-42A8-B4F4-793290DB1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DCDF-2DAB-4463-AD7E-BB6B4D91E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9F27-873E-47DC-AC24-ADC68E0A8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1852-3A00-4397-8E82-95B374079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5B2F-8D2F-4FD8-8550-6B59CBE5A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3716-5A50-4416-9039-85D090DCE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image" Target="../media/image44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Box 5"/>
          <p:cNvSpPr/>
          <p:nvPr/>
        </p:nvSpPr>
        <p:spPr>
          <a:xfrm>
            <a:off x="2673360" y="7956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1" name="Group 2"/>
          <p:cNvGrpSpPr/>
          <p:nvPr/>
        </p:nvGrpSpPr>
        <p:grpSpPr>
          <a:xfrm>
            <a:off x="2673360" y="6589800"/>
            <a:ext cx="1297080" cy="1700280"/>
            <a:chOff x="2673360" y="6589800"/>
            <a:chExt cx="1297080" cy="1700280"/>
          </a:xfrm>
        </p:grpSpPr>
        <p:sp>
          <p:nvSpPr>
            <p:cNvPr id="542" name="Rectangle 5"/>
            <p:cNvSpPr/>
            <p:nvPr/>
          </p:nvSpPr>
          <p:spPr>
            <a:xfrm>
              <a:off x="2673360" y="7983720"/>
              <a:ext cx="1297080" cy="30636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Action Button: Help 6"/>
            <p:cNvSpPr/>
            <p:nvPr/>
          </p:nvSpPr>
          <p:spPr>
            <a:xfrm>
              <a:off x="2673360" y="6589800"/>
              <a:ext cx="1297080" cy="1393920"/>
            </a:xfrm>
            <a:custGeom>
              <a:avLst/>
              <a:gdLst>
                <a:gd name="textAreaLeft" fmla="*/ 83880 w 1297080"/>
                <a:gd name="textAreaRight" fmla="*/ 1213200 w 1297080"/>
                <a:gd name="textAreaTop" fmla="*/ 83880 h 1393920"/>
                <a:gd name="textAreaBottom" fmla="*/ 1310040 h 1393920"/>
              </a:gdLst>
              <a:ahLst/>
              <a:rect l="textAreaLeft" t="textAreaTop" r="textAreaRight" b="textAreaBottom"/>
              <a:pathLst>
                <a:path w="21600" h="23212">
                  <a:moveTo>
                    <a:pt x="0" y="0"/>
                  </a:moveTo>
                  <a:lnTo>
                    <a:pt x="21600" y="0"/>
                  </a:lnTo>
                  <a:lnTo>
                    <a:pt x="21600" y="23212"/>
                  </a:lnTo>
                  <a:lnTo>
                    <a:pt x="0" y="23212"/>
                  </a:lnTo>
                  <a:close/>
                </a:path>
                <a:path fill="lightenLess" w="21600" h="2321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3212">
                  <a:moveTo>
                    <a:pt x="21600" y="0"/>
                  </a:moveTo>
                  <a:lnTo>
                    <a:pt x="21600" y="23212"/>
                  </a:lnTo>
                  <a:lnTo>
                    <a:pt x="20200" y="21812"/>
                  </a:lnTo>
                  <a:lnTo>
                    <a:pt x="20200" y="1400"/>
                  </a:lnTo>
                  <a:close/>
                </a:path>
                <a:path fill="darkenLess" w="21600" h="23212">
                  <a:moveTo>
                    <a:pt x="21600" y="23212"/>
                  </a:moveTo>
                  <a:lnTo>
                    <a:pt x="0" y="23212"/>
                  </a:lnTo>
                  <a:lnTo>
                    <a:pt x="1400" y="21812"/>
                  </a:lnTo>
                  <a:lnTo>
                    <a:pt x="20200" y="21812"/>
                  </a:lnTo>
                  <a:close/>
                </a:path>
                <a:path fill="lighten" w="21600" h="23212">
                  <a:moveTo>
                    <a:pt x="0" y="2321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1812"/>
                  </a:lnTo>
                  <a:close/>
                </a:path>
                <a:path fill="darken" w="21600" h="23212">
                  <a:moveTo>
                    <a:pt x="10800" y="15610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3212">
                  <a:moveTo>
                    <a:pt x="11905" y="15088"/>
                  </a:moveTo>
                  <a:lnTo>
                    <a:pt x="11905" y="13129"/>
                  </a:lnTo>
                  <a:cubicBezTo>
                    <a:pt x="11905" y="12302"/>
                    <a:pt x="12236" y="11606"/>
                    <a:pt x="12837" y="11606"/>
                  </a:cubicBezTo>
                  <a:cubicBezTo>
                    <a:pt x="13968" y="11606"/>
                    <a:pt x="14865" y="10240"/>
                    <a:pt x="14865" y="8656"/>
                  </a:cubicBezTo>
                  <a:cubicBezTo>
                    <a:pt x="14865" y="6340"/>
                    <a:pt x="13011" y="4600"/>
                    <a:pt x="10800" y="4600"/>
                  </a:cubicBezTo>
                  <a:cubicBezTo>
                    <a:pt x="8589" y="4600"/>
                    <a:pt x="6918" y="6340"/>
                    <a:pt x="6918" y="8656"/>
                  </a:cubicBezTo>
                  <a:lnTo>
                    <a:pt x="8772" y="8656"/>
                  </a:lnTo>
                  <a:cubicBezTo>
                    <a:pt x="8772" y="7515"/>
                    <a:pt x="9695" y="6628"/>
                    <a:pt x="10800" y="6628"/>
                  </a:cubicBezTo>
                  <a:cubicBezTo>
                    <a:pt x="11905" y="6628"/>
                    <a:pt x="12837" y="7515"/>
                    <a:pt x="12837" y="8656"/>
                  </a:cubicBezTo>
                  <a:cubicBezTo>
                    <a:pt x="12837" y="9395"/>
                    <a:pt x="12367" y="10126"/>
                    <a:pt x="11905" y="10126"/>
                  </a:cubicBezTo>
                  <a:cubicBezTo>
                    <a:pt x="10800" y="10126"/>
                    <a:pt x="9695" y="11606"/>
                    <a:pt x="9695" y="13129"/>
                  </a:cubicBezTo>
                  <a:lnTo>
                    <a:pt x="9695" y="15088"/>
                  </a:lnTo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4" name="TextBox 7"/>
          <p:cNvSpPr/>
          <p:nvPr/>
        </p:nvSpPr>
        <p:spPr>
          <a:xfrm>
            <a:off x="-906480" y="2127240"/>
            <a:ext cx="8712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GCSE LINEAR FORMULA SH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(FOUND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Box 4"/>
          <p:cNvSpPr/>
          <p:nvPr/>
        </p:nvSpPr>
        <p:spPr>
          <a:xfrm>
            <a:off x="1592280" y="11160"/>
            <a:ext cx="39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alibri"/>
              </a:rPr>
              <a:t>GCSE FOUNDATION FORMULA SHE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6" name="Picture 2" descr=""/>
          <p:cNvPicPr/>
          <p:nvPr/>
        </p:nvPicPr>
        <p:blipFill>
          <a:blip r:embed="rId1"/>
          <a:stretch/>
        </p:blipFill>
        <p:spPr>
          <a:xfrm>
            <a:off x="120600" y="1474920"/>
            <a:ext cx="1490760" cy="12254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4" descr=""/>
          <p:cNvPicPr/>
          <p:nvPr/>
        </p:nvPicPr>
        <p:blipFill>
          <a:blip r:embed="rId2"/>
          <a:srcRect l="46621" t="71457" r="25398" b="17279"/>
          <a:stretch/>
        </p:blipFill>
        <p:spPr>
          <a:xfrm>
            <a:off x="1795320" y="2230560"/>
            <a:ext cx="1417680" cy="4284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5" descr=""/>
          <p:cNvPicPr/>
          <p:nvPr/>
        </p:nvPicPr>
        <p:blipFill>
          <a:blip r:embed="rId3"/>
          <a:srcRect l="1637" t="0" r="62673" b="57195"/>
          <a:stretch/>
        </p:blipFill>
        <p:spPr>
          <a:xfrm>
            <a:off x="1795320" y="1363680"/>
            <a:ext cx="1106640" cy="41904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6" descr=""/>
          <p:cNvPicPr/>
          <p:nvPr/>
        </p:nvPicPr>
        <p:blipFill>
          <a:blip r:embed="rId4"/>
          <a:srcRect l="63765" t="0" r="0" b="58133"/>
          <a:stretch/>
        </p:blipFill>
        <p:spPr>
          <a:xfrm>
            <a:off x="1765440" y="1782720"/>
            <a:ext cx="1166760" cy="42552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7" descr=""/>
          <p:cNvPicPr/>
          <p:nvPr/>
        </p:nvPicPr>
        <p:blipFill>
          <a:blip r:embed="rId5"/>
          <a:srcRect l="37301" t="31836" r="22762" b="19272"/>
          <a:stretch/>
        </p:blipFill>
        <p:spPr>
          <a:xfrm>
            <a:off x="162000" y="3287880"/>
            <a:ext cx="2316240" cy="201744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8" descr=""/>
          <p:cNvPicPr/>
          <p:nvPr/>
        </p:nvPicPr>
        <p:blipFill>
          <a:blip r:embed="rId6"/>
          <a:srcRect l="6260" t="37411" r="8805" b="28207"/>
          <a:stretch/>
        </p:blipFill>
        <p:spPr>
          <a:xfrm>
            <a:off x="162000" y="5446800"/>
            <a:ext cx="2400120" cy="1212840"/>
          </a:xfrm>
          <a:prstGeom prst="rect">
            <a:avLst/>
          </a:prstGeom>
          <a:ln w="0">
            <a:noFill/>
          </a:ln>
        </p:spPr>
      </p:pic>
      <p:sp>
        <p:nvSpPr>
          <p:cNvPr id="552" name="TextBox 48"/>
          <p:cNvSpPr/>
          <p:nvPr/>
        </p:nvSpPr>
        <p:spPr>
          <a:xfrm>
            <a:off x="4680" y="7210440"/>
            <a:ext cx="15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cm = 10m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cl   = 10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kg  = 1000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3" name="Group 55"/>
          <p:cNvGrpSpPr/>
          <p:nvPr/>
        </p:nvGrpSpPr>
        <p:grpSpPr>
          <a:xfrm>
            <a:off x="-6480" y="8318520"/>
            <a:ext cx="1971720" cy="642600"/>
            <a:chOff x="-6480" y="8318520"/>
            <a:chExt cx="1971720" cy="642600"/>
          </a:xfrm>
        </p:grpSpPr>
        <p:sp>
          <p:nvSpPr>
            <p:cNvPr id="554" name="TextBox 100"/>
            <p:cNvSpPr/>
            <p:nvPr/>
          </p:nvSpPr>
          <p:spPr>
            <a:xfrm>
              <a:off x="-6480" y="8318520"/>
              <a:ext cx="1971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1m  = 10000cm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1m  = 1000000cm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TextBox 51"/>
            <p:cNvSpPr/>
            <p:nvPr/>
          </p:nvSpPr>
          <p:spPr>
            <a:xfrm>
              <a:off x="315720" y="8323200"/>
              <a:ext cx="144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TextBox 102"/>
            <p:cNvSpPr/>
            <p:nvPr/>
          </p:nvSpPr>
          <p:spPr>
            <a:xfrm>
              <a:off x="1449360" y="8323200"/>
              <a:ext cx="144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TextBox 103"/>
            <p:cNvSpPr/>
            <p:nvPr/>
          </p:nvSpPr>
          <p:spPr>
            <a:xfrm>
              <a:off x="307800" y="8596440"/>
              <a:ext cx="144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TextBox 104"/>
            <p:cNvSpPr/>
            <p:nvPr/>
          </p:nvSpPr>
          <p:spPr>
            <a:xfrm>
              <a:off x="1673280" y="8582040"/>
              <a:ext cx="144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9" name="Picture 11" descr=""/>
          <p:cNvPicPr/>
          <p:nvPr/>
        </p:nvPicPr>
        <p:blipFill>
          <a:blip r:embed="rId7"/>
          <a:stretch/>
        </p:blipFill>
        <p:spPr>
          <a:xfrm>
            <a:off x="69840" y="660240"/>
            <a:ext cx="3276720" cy="38736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12" descr=""/>
          <p:cNvPicPr/>
          <p:nvPr/>
        </p:nvPicPr>
        <p:blipFill>
          <a:blip r:embed="rId8"/>
          <a:stretch/>
        </p:blipFill>
        <p:spPr>
          <a:xfrm>
            <a:off x="3522600" y="666720"/>
            <a:ext cx="3276720" cy="38736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13" descr=""/>
          <p:cNvPicPr/>
          <p:nvPr/>
        </p:nvPicPr>
        <p:blipFill>
          <a:blip r:embed="rId9"/>
          <a:stretch/>
        </p:blipFill>
        <p:spPr>
          <a:xfrm>
            <a:off x="3324240" y="1339920"/>
            <a:ext cx="3633840" cy="18637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4" descr=""/>
          <p:cNvPicPr/>
          <p:nvPr/>
        </p:nvPicPr>
        <p:blipFill>
          <a:blip r:embed="rId10"/>
          <a:stretch/>
        </p:blipFill>
        <p:spPr>
          <a:xfrm>
            <a:off x="2867040" y="3154320"/>
            <a:ext cx="4037040" cy="354024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5" descr=""/>
          <p:cNvPicPr/>
          <p:nvPr/>
        </p:nvPicPr>
        <p:blipFill>
          <a:blip r:embed="rId11"/>
          <a:stretch/>
        </p:blipFill>
        <p:spPr>
          <a:xfrm>
            <a:off x="1506600" y="7134120"/>
            <a:ext cx="2158920" cy="1449360"/>
          </a:xfrm>
          <a:prstGeom prst="rect">
            <a:avLst/>
          </a:prstGeom>
          <a:ln w="0">
            <a:noFill/>
          </a:ln>
        </p:spPr>
      </p:pic>
      <p:sp>
        <p:nvSpPr>
          <p:cNvPr id="564" name="TextBox 130"/>
          <p:cNvSpPr/>
          <p:nvPr/>
        </p:nvSpPr>
        <p:spPr>
          <a:xfrm>
            <a:off x="106200" y="29797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alibri"/>
              </a:rPr>
              <a:t>Plans and Elev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TextBox 133"/>
          <p:cNvSpPr/>
          <p:nvPr/>
        </p:nvSpPr>
        <p:spPr>
          <a:xfrm>
            <a:off x="4680" y="6939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alibri"/>
              </a:rPr>
              <a:t>Conver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6" name="Picture 9" descr=""/>
          <p:cNvPicPr/>
          <p:nvPr/>
        </p:nvPicPr>
        <p:blipFill>
          <a:blip r:embed="rId12"/>
          <a:stretch/>
        </p:blipFill>
        <p:spPr>
          <a:xfrm>
            <a:off x="5400720" y="7307280"/>
            <a:ext cx="1444680" cy="49356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10" descr=""/>
          <p:cNvPicPr/>
          <p:nvPr/>
        </p:nvPicPr>
        <p:blipFill>
          <a:blip r:embed="rId13"/>
          <a:stretch/>
        </p:blipFill>
        <p:spPr>
          <a:xfrm>
            <a:off x="3754440" y="7318440"/>
            <a:ext cx="1444680" cy="493560"/>
          </a:xfrm>
          <a:prstGeom prst="rect">
            <a:avLst/>
          </a:prstGeom>
          <a:ln w="0">
            <a:noFill/>
          </a:ln>
        </p:spPr>
      </p:pic>
      <p:sp>
        <p:nvSpPr>
          <p:cNvPr id="568" name="TextBox 139"/>
          <p:cNvSpPr/>
          <p:nvPr/>
        </p:nvSpPr>
        <p:spPr>
          <a:xfrm>
            <a:off x="3716280" y="695952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alibri"/>
              </a:rPr>
              <a:t>Percentages of amou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TextBox 140"/>
          <p:cNvSpPr/>
          <p:nvPr/>
        </p:nvSpPr>
        <p:spPr>
          <a:xfrm>
            <a:off x="44280" y="1042920"/>
            <a:ext cx="27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alibri"/>
              </a:rPr>
              <a:t>Speed, Distance and Ti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TextBox 141"/>
          <p:cNvSpPr/>
          <p:nvPr/>
        </p:nvSpPr>
        <p:spPr>
          <a:xfrm>
            <a:off x="3328920" y="1042920"/>
            <a:ext cx="27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alibri"/>
              </a:rPr>
              <a:t>Averages and Spe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TextBox 142"/>
          <p:cNvSpPr/>
          <p:nvPr/>
        </p:nvSpPr>
        <p:spPr>
          <a:xfrm>
            <a:off x="17640" y="314280"/>
            <a:ext cx="276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alibri"/>
              </a:rPr>
              <a:t>Percentage Incre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Box 143"/>
          <p:cNvSpPr/>
          <p:nvPr/>
        </p:nvSpPr>
        <p:spPr>
          <a:xfrm>
            <a:off x="3473280" y="312840"/>
            <a:ext cx="27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alibri"/>
              </a:rPr>
              <a:t>Percentage Decre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3" name="Picture 15" descr=""/>
          <p:cNvPicPr/>
          <p:nvPr/>
        </p:nvPicPr>
        <p:blipFill>
          <a:blip r:embed="rId14"/>
          <a:stretch/>
        </p:blipFill>
        <p:spPr>
          <a:xfrm>
            <a:off x="3716280" y="8282160"/>
            <a:ext cx="3057480" cy="785520"/>
          </a:xfrm>
          <a:prstGeom prst="rect">
            <a:avLst/>
          </a:prstGeom>
          <a:ln w="0">
            <a:noFill/>
          </a:ln>
        </p:spPr>
      </p:pic>
      <p:sp>
        <p:nvSpPr>
          <p:cNvPr id="574" name="TextBox 145"/>
          <p:cNvSpPr/>
          <p:nvPr/>
        </p:nvSpPr>
        <p:spPr>
          <a:xfrm>
            <a:off x="3778200" y="793260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alibri"/>
              </a:rPr>
              <a:t>Sha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4" descr=""/>
          <p:cNvPicPr/>
          <p:nvPr/>
        </p:nvPicPr>
        <p:blipFill>
          <a:blip r:embed="rId1"/>
          <a:stretch/>
        </p:blipFill>
        <p:spPr>
          <a:xfrm>
            <a:off x="108000" y="468360"/>
            <a:ext cx="2028600" cy="11509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5" descr=""/>
          <p:cNvPicPr/>
          <p:nvPr/>
        </p:nvPicPr>
        <p:blipFill>
          <a:blip r:embed="rId2"/>
          <a:stretch/>
        </p:blipFill>
        <p:spPr>
          <a:xfrm>
            <a:off x="1452600" y="468360"/>
            <a:ext cx="3209760" cy="114120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6" descr=""/>
          <p:cNvPicPr/>
          <p:nvPr/>
        </p:nvPicPr>
        <p:blipFill>
          <a:blip r:embed="rId3"/>
          <a:stretch/>
        </p:blipFill>
        <p:spPr>
          <a:xfrm>
            <a:off x="4351320" y="139680"/>
            <a:ext cx="2652840" cy="143208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7" descr=""/>
          <p:cNvPicPr/>
          <p:nvPr/>
        </p:nvPicPr>
        <p:blipFill>
          <a:blip r:embed="rId4"/>
          <a:stretch/>
        </p:blipFill>
        <p:spPr>
          <a:xfrm>
            <a:off x="-27000" y="2195640"/>
            <a:ext cx="3246480" cy="114768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8" descr=""/>
          <p:cNvPicPr/>
          <p:nvPr/>
        </p:nvPicPr>
        <p:blipFill>
          <a:blip r:embed="rId5"/>
          <a:stretch/>
        </p:blipFill>
        <p:spPr>
          <a:xfrm>
            <a:off x="3789360" y="1979640"/>
            <a:ext cx="2951280" cy="129204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9" descr=""/>
          <p:cNvPicPr/>
          <p:nvPr/>
        </p:nvPicPr>
        <p:blipFill>
          <a:blip r:embed="rId6"/>
          <a:stretch/>
        </p:blipFill>
        <p:spPr>
          <a:xfrm>
            <a:off x="3711600" y="3348000"/>
            <a:ext cx="3246480" cy="110664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10" descr=""/>
          <p:cNvPicPr/>
          <p:nvPr/>
        </p:nvPicPr>
        <p:blipFill>
          <a:blip r:embed="rId7"/>
          <a:stretch/>
        </p:blipFill>
        <p:spPr>
          <a:xfrm>
            <a:off x="-27000" y="3368520"/>
            <a:ext cx="3246480" cy="1067040"/>
          </a:xfrm>
          <a:prstGeom prst="rect">
            <a:avLst/>
          </a:prstGeom>
          <a:ln w="0">
            <a:noFill/>
          </a:ln>
        </p:spPr>
      </p:pic>
      <p:sp>
        <p:nvSpPr>
          <p:cNvPr id="582" name="TextBox 109"/>
          <p:cNvSpPr/>
          <p:nvPr/>
        </p:nvSpPr>
        <p:spPr>
          <a:xfrm>
            <a:off x="3240" y="349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alibri"/>
              </a:rPr>
              <a:t>Types of ang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Box 111"/>
          <p:cNvSpPr/>
          <p:nvPr/>
        </p:nvSpPr>
        <p:spPr>
          <a:xfrm>
            <a:off x="44280" y="1835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alibri"/>
              </a:rPr>
              <a:t>Angl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4" name="Picture 11" descr=""/>
          <p:cNvPicPr/>
          <p:nvPr/>
        </p:nvPicPr>
        <p:blipFill>
          <a:blip r:embed="rId8"/>
          <a:stretch/>
        </p:blipFill>
        <p:spPr>
          <a:xfrm>
            <a:off x="44280" y="4824360"/>
            <a:ext cx="3316320" cy="105408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2" descr=""/>
          <p:cNvPicPr/>
          <p:nvPr/>
        </p:nvPicPr>
        <p:blipFill>
          <a:blip r:embed="rId9"/>
          <a:stretch/>
        </p:blipFill>
        <p:spPr>
          <a:xfrm>
            <a:off x="2997360" y="4748040"/>
            <a:ext cx="4402080" cy="11192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3" descr=""/>
          <p:cNvPicPr/>
          <p:nvPr/>
        </p:nvPicPr>
        <p:blipFill>
          <a:blip r:embed="rId10"/>
          <a:stretch/>
        </p:blipFill>
        <p:spPr>
          <a:xfrm>
            <a:off x="-84240" y="5886360"/>
            <a:ext cx="5334120" cy="133524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14" descr=""/>
          <p:cNvPicPr/>
          <p:nvPr/>
        </p:nvPicPr>
        <p:blipFill>
          <a:blip r:embed="rId11"/>
          <a:stretch/>
        </p:blipFill>
        <p:spPr>
          <a:xfrm>
            <a:off x="3333600" y="5754600"/>
            <a:ext cx="3548160" cy="1779840"/>
          </a:xfrm>
          <a:prstGeom prst="rect">
            <a:avLst/>
          </a:prstGeom>
          <a:ln w="0">
            <a:noFill/>
          </a:ln>
        </p:spPr>
      </p:pic>
      <p:sp>
        <p:nvSpPr>
          <p:cNvPr id="588" name="TextBox 116"/>
          <p:cNvSpPr/>
          <p:nvPr/>
        </p:nvSpPr>
        <p:spPr>
          <a:xfrm>
            <a:off x="23760" y="44226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alibri"/>
              </a:rPr>
              <a:t>Areas of sha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9" name="Picture 15" descr=""/>
          <p:cNvPicPr/>
          <p:nvPr/>
        </p:nvPicPr>
        <p:blipFill>
          <a:blip r:embed="rId12"/>
          <a:stretch/>
        </p:blipFill>
        <p:spPr>
          <a:xfrm>
            <a:off x="189000" y="7870680"/>
            <a:ext cx="2882880" cy="1109880"/>
          </a:xfrm>
          <a:prstGeom prst="rect">
            <a:avLst/>
          </a:prstGeom>
          <a:ln w="0">
            <a:noFill/>
          </a:ln>
        </p:spPr>
      </p:pic>
      <p:sp>
        <p:nvSpPr>
          <p:cNvPr id="590" name="TextBox 119"/>
          <p:cNvSpPr/>
          <p:nvPr/>
        </p:nvSpPr>
        <p:spPr>
          <a:xfrm>
            <a:off x="20520" y="73245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alibri"/>
              </a:rPr>
              <a:t>Volume of a pr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1" name="Picture 16" descr=""/>
          <p:cNvPicPr/>
          <p:nvPr/>
        </p:nvPicPr>
        <p:blipFill>
          <a:blip r:embed="rId13"/>
          <a:stretch/>
        </p:blipFill>
        <p:spPr>
          <a:xfrm>
            <a:off x="2997360" y="7958160"/>
            <a:ext cx="3797280" cy="996840"/>
          </a:xfrm>
          <a:prstGeom prst="rect">
            <a:avLst/>
          </a:prstGeom>
          <a:ln w="0">
            <a:noFill/>
          </a:ln>
        </p:spPr>
      </p:pic>
      <p:sp>
        <p:nvSpPr>
          <p:cNvPr id="592" name="TextBox 121"/>
          <p:cNvSpPr/>
          <p:nvPr/>
        </p:nvSpPr>
        <p:spPr>
          <a:xfrm>
            <a:off x="2924280" y="7483320"/>
            <a:ext cx="35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alibri"/>
              </a:rPr>
              <a:t>Angles formed by parallel li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3" descr=""/>
          <p:cNvPicPr/>
          <p:nvPr/>
        </p:nvPicPr>
        <p:blipFill>
          <a:blip r:embed="rId1"/>
          <a:srcRect l="26760" t="40108" r="11719" b="16147"/>
          <a:stretch/>
        </p:blipFill>
        <p:spPr>
          <a:xfrm>
            <a:off x="115920" y="441360"/>
            <a:ext cx="6554880" cy="218592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7" descr=""/>
          <p:cNvPicPr/>
          <p:nvPr/>
        </p:nvPicPr>
        <p:blipFill>
          <a:blip r:embed="rId2"/>
          <a:srcRect l="24364" t="31196" r="25855" b="21097"/>
          <a:stretch/>
        </p:blipFill>
        <p:spPr>
          <a:xfrm>
            <a:off x="22320" y="2556000"/>
            <a:ext cx="4311720" cy="3098520"/>
          </a:xfrm>
          <a:prstGeom prst="rect">
            <a:avLst/>
          </a:prstGeom>
          <a:ln w="0">
            <a:noFill/>
          </a:ln>
        </p:spPr>
      </p:pic>
      <p:pic>
        <p:nvPicPr>
          <p:cNvPr id="595" name="TextBox 9" descr=""/>
          <p:cNvPicPr/>
          <p:nvPr/>
        </p:nvPicPr>
        <p:blipFill>
          <a:blip r:embed="rId3"/>
          <a:stretch/>
        </p:blipFill>
        <p:spPr>
          <a:xfrm>
            <a:off x="974880" y="5205240"/>
            <a:ext cx="1171440" cy="378000"/>
          </a:xfrm>
          <a:prstGeom prst="rect">
            <a:avLst/>
          </a:prstGeom>
          <a:ln w="0">
            <a:noFill/>
          </a:ln>
        </p:spPr>
      </p:pic>
      <p:pic>
        <p:nvPicPr>
          <p:cNvPr id="596" name="TextBox 10" descr=""/>
          <p:cNvPicPr/>
          <p:nvPr/>
        </p:nvPicPr>
        <p:blipFill>
          <a:blip r:embed="rId4"/>
          <a:stretch/>
        </p:blipFill>
        <p:spPr>
          <a:xfrm>
            <a:off x="55440" y="5492880"/>
            <a:ext cx="3589560" cy="377640"/>
          </a:xfrm>
          <a:prstGeom prst="rect">
            <a:avLst/>
          </a:prstGeom>
          <a:ln w="0">
            <a:noFill/>
          </a:ln>
        </p:spPr>
      </p:pic>
      <p:pic>
        <p:nvPicPr>
          <p:cNvPr id="597" name="TextBox 20" descr=""/>
          <p:cNvPicPr/>
          <p:nvPr/>
        </p:nvPicPr>
        <p:blipFill>
          <a:blip r:embed="rId5"/>
          <a:stretch/>
        </p:blipFill>
        <p:spPr>
          <a:xfrm>
            <a:off x="42840" y="5851440"/>
            <a:ext cx="4260960" cy="500040"/>
          </a:xfrm>
          <a:prstGeom prst="rect">
            <a:avLst/>
          </a:prstGeom>
          <a:ln w="0">
            <a:noFill/>
          </a:ln>
        </p:spPr>
      </p:pic>
      <p:pic>
        <p:nvPicPr>
          <p:cNvPr id="598" name="TextBox 21" descr=""/>
          <p:cNvPicPr/>
          <p:nvPr/>
        </p:nvPicPr>
        <p:blipFill>
          <a:blip r:embed="rId6"/>
          <a:stretch/>
        </p:blipFill>
        <p:spPr>
          <a:xfrm>
            <a:off x="55440" y="6308640"/>
            <a:ext cx="5034240" cy="378000"/>
          </a:xfrm>
          <a:prstGeom prst="rect">
            <a:avLst/>
          </a:prstGeom>
          <a:ln w="0">
            <a:noFill/>
          </a:ln>
        </p:spPr>
      </p:pic>
      <p:pic>
        <p:nvPicPr>
          <p:cNvPr id="599" name="TextBox 22" descr=""/>
          <p:cNvPicPr/>
          <p:nvPr/>
        </p:nvPicPr>
        <p:blipFill>
          <a:blip r:embed="rId7"/>
          <a:stretch/>
        </p:blipFill>
        <p:spPr>
          <a:xfrm>
            <a:off x="36360" y="6742080"/>
            <a:ext cx="5035680" cy="500040"/>
          </a:xfrm>
          <a:prstGeom prst="rect">
            <a:avLst/>
          </a:prstGeom>
          <a:ln w="0">
            <a:noFill/>
          </a:ln>
        </p:spPr>
      </p:pic>
      <p:grpSp>
        <p:nvGrpSpPr>
          <p:cNvPr id="600" name="Group 12"/>
          <p:cNvGrpSpPr/>
          <p:nvPr/>
        </p:nvGrpSpPr>
        <p:grpSpPr>
          <a:xfrm>
            <a:off x="189000" y="7683120"/>
            <a:ext cx="2233440" cy="1425600"/>
            <a:chOff x="189000" y="7683120"/>
            <a:chExt cx="2233440" cy="1425600"/>
          </a:xfrm>
        </p:grpSpPr>
        <p:sp>
          <p:nvSpPr>
            <p:cNvPr id="601" name="Cube 11"/>
            <p:cNvSpPr/>
            <p:nvPr/>
          </p:nvSpPr>
          <p:spPr>
            <a:xfrm>
              <a:off x="189000" y="7921440"/>
              <a:ext cx="1789200" cy="936720"/>
            </a:xfrm>
            <a:prstGeom prst="cube">
              <a:avLst>
                <a:gd name="adj" fmla="val 35175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TextBox 24"/>
            <p:cNvSpPr/>
            <p:nvPr/>
          </p:nvSpPr>
          <p:spPr>
            <a:xfrm>
              <a:off x="605880" y="8832240"/>
              <a:ext cx="86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alibri"/>
                </a:rPr>
                <a:t>Length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TextBox 25"/>
            <p:cNvSpPr/>
            <p:nvPr/>
          </p:nvSpPr>
          <p:spPr>
            <a:xfrm rot="19069800">
              <a:off x="1577520" y="8548200"/>
              <a:ext cx="86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alibri"/>
                </a:rPr>
                <a:t>Width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TextBox 26"/>
            <p:cNvSpPr/>
            <p:nvPr/>
          </p:nvSpPr>
          <p:spPr>
            <a:xfrm rot="16200000">
              <a:off x="1652760" y="7976880"/>
              <a:ext cx="86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alibri"/>
                </a:rPr>
                <a:t>Heigh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5" name="TextBox 28"/>
          <p:cNvSpPr/>
          <p:nvPr/>
        </p:nvSpPr>
        <p:spPr>
          <a:xfrm>
            <a:off x="2430360" y="7905600"/>
            <a:ext cx="503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Volume of a cuboid = length x width x heigh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Box 29"/>
          <p:cNvSpPr/>
          <p:nvPr/>
        </p:nvSpPr>
        <p:spPr>
          <a:xfrm>
            <a:off x="2435400" y="8234280"/>
            <a:ext cx="314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urface area of a cuboid =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2 x l x w + 2 x h x w + 2 x l x 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TextBox 37"/>
          <p:cNvSpPr/>
          <p:nvPr/>
        </p:nvSpPr>
        <p:spPr>
          <a:xfrm>
            <a:off x="101520" y="34920"/>
            <a:ext cx="10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alibri"/>
              </a:rPr>
              <a:t>Polyg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TextBox 38"/>
          <p:cNvSpPr/>
          <p:nvPr/>
        </p:nvSpPr>
        <p:spPr>
          <a:xfrm>
            <a:off x="98280" y="255600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alibri"/>
              </a:rPr>
              <a:t>Circ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TextBox 39"/>
          <p:cNvSpPr/>
          <p:nvPr/>
        </p:nvSpPr>
        <p:spPr>
          <a:xfrm>
            <a:off x="34920" y="7386480"/>
            <a:ext cx="25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alibri"/>
              </a:rPr>
              <a:t>Cubes and Cuboi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TextBox 1"/>
          <p:cNvSpPr/>
          <p:nvPr/>
        </p:nvSpPr>
        <p:spPr>
          <a:xfrm>
            <a:off x="4286160" y="339840"/>
            <a:ext cx="649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80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10" descr=""/>
          <p:cNvPicPr/>
          <p:nvPr/>
        </p:nvPicPr>
        <p:blipFill>
          <a:blip r:embed="rId1"/>
          <a:stretch/>
        </p:blipFill>
        <p:spPr>
          <a:xfrm>
            <a:off x="3397320" y="3492360"/>
            <a:ext cx="3487680" cy="62244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5" descr=""/>
          <p:cNvPicPr/>
          <p:nvPr/>
        </p:nvPicPr>
        <p:blipFill>
          <a:blip r:embed="rId2"/>
          <a:stretch/>
        </p:blipFill>
        <p:spPr>
          <a:xfrm>
            <a:off x="76320" y="330120"/>
            <a:ext cx="3160440" cy="2560680"/>
          </a:xfrm>
          <a:prstGeom prst="rect">
            <a:avLst/>
          </a:prstGeom>
          <a:ln w="0">
            <a:noFill/>
          </a:ln>
        </p:spPr>
      </p:pic>
      <p:cxnSp>
        <p:nvCxnSpPr>
          <p:cNvPr id="613" name="Straight Arrow Connector 19"/>
          <p:cNvCxnSpPr/>
          <p:nvPr/>
        </p:nvCxnSpPr>
        <p:spPr>
          <a:xfrm flipH="1">
            <a:off x="1329840" y="1333080"/>
            <a:ext cx="326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14" name="Picture 6" descr=""/>
          <p:cNvPicPr/>
          <p:nvPr/>
        </p:nvPicPr>
        <p:blipFill>
          <a:blip r:embed="rId3"/>
          <a:stretch/>
        </p:blipFill>
        <p:spPr>
          <a:xfrm>
            <a:off x="3800520" y="309600"/>
            <a:ext cx="2562120" cy="2533680"/>
          </a:xfrm>
          <a:prstGeom prst="rect">
            <a:avLst/>
          </a:prstGeom>
          <a:ln w="0">
            <a:noFill/>
          </a:ln>
        </p:spPr>
      </p:pic>
      <p:sp>
        <p:nvSpPr>
          <p:cNvPr id="615" name="TextBox 21"/>
          <p:cNvSpPr/>
          <p:nvPr/>
        </p:nvSpPr>
        <p:spPr>
          <a:xfrm>
            <a:off x="52560" y="54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alibri"/>
              </a:rPr>
              <a:t>Equations of li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xtBox 26"/>
          <p:cNvSpPr/>
          <p:nvPr/>
        </p:nvSpPr>
        <p:spPr>
          <a:xfrm>
            <a:off x="3747960" y="158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alibri"/>
              </a:rPr>
              <a:t>Co-ordin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TextBox 22"/>
          <p:cNvSpPr/>
          <p:nvPr/>
        </p:nvSpPr>
        <p:spPr>
          <a:xfrm>
            <a:off x="5824440" y="6174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(4,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Box 28"/>
          <p:cNvSpPr/>
          <p:nvPr/>
        </p:nvSpPr>
        <p:spPr>
          <a:xfrm>
            <a:off x="5641920" y="20318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(5,-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TextBox 29"/>
          <p:cNvSpPr/>
          <p:nvPr/>
        </p:nvSpPr>
        <p:spPr>
          <a:xfrm>
            <a:off x="3967200" y="981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(-2,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TextBox 30"/>
          <p:cNvSpPr/>
          <p:nvPr/>
        </p:nvSpPr>
        <p:spPr>
          <a:xfrm>
            <a:off x="3770280" y="20667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(-3,-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1" name="Picture 8" descr=""/>
          <p:cNvPicPr/>
          <p:nvPr/>
        </p:nvPicPr>
        <p:blipFill>
          <a:blip r:embed="rId4"/>
          <a:srcRect l="1904" t="0" r="4058" b="0"/>
          <a:stretch/>
        </p:blipFill>
        <p:spPr>
          <a:xfrm>
            <a:off x="36360" y="3514680"/>
            <a:ext cx="3537000" cy="184932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11" descr=""/>
          <p:cNvPicPr/>
          <p:nvPr/>
        </p:nvPicPr>
        <p:blipFill>
          <a:blip r:embed="rId5"/>
          <a:srcRect l="9588" t="0" r="0" b="0"/>
          <a:stretch/>
        </p:blipFill>
        <p:spPr>
          <a:xfrm>
            <a:off x="3716280" y="4387680"/>
            <a:ext cx="3129120" cy="61776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14" descr=""/>
          <p:cNvPicPr/>
          <p:nvPr/>
        </p:nvPicPr>
        <p:blipFill>
          <a:blip r:embed="rId6"/>
          <a:stretch/>
        </p:blipFill>
        <p:spPr>
          <a:xfrm>
            <a:off x="44280" y="5854680"/>
            <a:ext cx="6255000" cy="1238400"/>
          </a:xfrm>
          <a:prstGeom prst="rect">
            <a:avLst/>
          </a:prstGeom>
          <a:ln w="0">
            <a:noFill/>
          </a:ln>
        </p:spPr>
      </p:pic>
      <p:sp>
        <p:nvSpPr>
          <p:cNvPr id="624" name="TextBox 39"/>
          <p:cNvSpPr/>
          <p:nvPr/>
        </p:nvSpPr>
        <p:spPr>
          <a:xfrm>
            <a:off x="-1440" y="302904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alibri"/>
              </a:rPr>
              <a:t>3D shape nam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TextBox 40"/>
          <p:cNvSpPr/>
          <p:nvPr/>
        </p:nvSpPr>
        <p:spPr>
          <a:xfrm>
            <a:off x="-57240" y="5445000"/>
            <a:ext cx="75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alibri"/>
              </a:rPr>
              <a:t>Pythagoras’ Theorem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(when working out a missing side length in a triangl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TextBox 48"/>
          <p:cNvSpPr/>
          <p:nvPr/>
        </p:nvSpPr>
        <p:spPr>
          <a:xfrm>
            <a:off x="3633840" y="3040200"/>
            <a:ext cx="27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alibri"/>
              </a:rPr>
              <a:t>Quadrilateral shape nam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7" name="Picture 16" descr=""/>
          <p:cNvPicPr/>
          <p:nvPr/>
        </p:nvPicPr>
        <p:blipFill>
          <a:blip r:embed="rId7"/>
          <a:stretch/>
        </p:blipFill>
        <p:spPr>
          <a:xfrm>
            <a:off x="-33480" y="7500960"/>
            <a:ext cx="3289320" cy="160812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7" descr=""/>
          <p:cNvPicPr/>
          <p:nvPr/>
        </p:nvPicPr>
        <p:blipFill>
          <a:blip r:embed="rId8"/>
          <a:stretch/>
        </p:blipFill>
        <p:spPr>
          <a:xfrm>
            <a:off x="2322360" y="7524720"/>
            <a:ext cx="4635720" cy="1162080"/>
          </a:xfrm>
          <a:prstGeom prst="rect">
            <a:avLst/>
          </a:prstGeom>
          <a:ln w="0">
            <a:noFill/>
          </a:ln>
        </p:spPr>
      </p:pic>
      <p:sp>
        <p:nvSpPr>
          <p:cNvPr id="629" name="TextBox 52"/>
          <p:cNvSpPr/>
          <p:nvPr/>
        </p:nvSpPr>
        <p:spPr>
          <a:xfrm>
            <a:off x="-27000" y="7226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alibri"/>
              </a:rPr>
              <a:t>Polygon Nam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TextBox 53"/>
          <p:cNvSpPr/>
          <p:nvPr/>
        </p:nvSpPr>
        <p:spPr>
          <a:xfrm>
            <a:off x="2338560" y="722628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alibri"/>
              </a:rPr>
              <a:t>Types of numb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1" name="Picture 19" descr=""/>
          <p:cNvPicPr/>
          <p:nvPr/>
        </p:nvPicPr>
        <p:blipFill>
          <a:blip r:embed="rId9"/>
          <a:stretch/>
        </p:blipFill>
        <p:spPr>
          <a:xfrm>
            <a:off x="2427120" y="8669160"/>
            <a:ext cx="4283280" cy="25416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20" descr=""/>
          <p:cNvPicPr/>
          <p:nvPr/>
        </p:nvPicPr>
        <p:blipFill>
          <a:blip r:embed="rId10"/>
          <a:stretch/>
        </p:blipFill>
        <p:spPr>
          <a:xfrm>
            <a:off x="2425680" y="8881920"/>
            <a:ext cx="1562040" cy="2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6T10:34:27Z</dcterms:created>
  <dc:creator>Mr M Mistry</dc:creator>
  <dc:description/>
  <dc:language>en-US</dc:language>
  <cp:lastModifiedBy>Jeev</cp:lastModifiedBy>
  <dcterms:modified xsi:type="dcterms:W3CDTF">2013-11-29T22:00:25Z</dcterms:modified>
  <cp:revision>48</cp:revision>
  <dc:subject/>
  <dc:title>PowerPoint Presentation</dc:title>
</cp:coreProperties>
</file>